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22860000"/>
  <p:notesSz cx="18384838" cy="227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A0C-972F-4B02-94D1-4734C243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1376820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573-C19A-4386-8C6C-1047584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696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E8A-15DC-4903-B2ED-344EADFF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2724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8288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62724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8288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9A5-FF68-4CCC-8B01-20C132D6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49"/>
              </a:spcBef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C7B-37D5-496B-8A37-8618F61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EAF-555D-4A08-92DC-100F270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724-45A2-4E72-9243-24BA53D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AAD-08A6-44BE-AB2B-B8289C51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031840"/>
            <a:ext cx="1554480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49"/>
              </a:spcBef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76B-58F0-445F-BAEC-872F9A8F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F03-4C9B-407C-97C2-6A04B63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696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2E1-5444-4E67-A3FF-838BCD7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272-12F8-4834-9E4B-C972987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11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marL="880920" indent="-880920">
              <a:spcBef>
                <a:spcPts val="2049"/>
              </a:spcBef>
              <a:buClr>
                <a:srgbClr val="000000"/>
              </a:buClr>
              <a:buFont typeface="Times New Roman"/>
              <a:buChar char="•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9800" indent="-733320">
              <a:spcBef>
                <a:spcPts val="2049"/>
              </a:spcBef>
              <a:buClr>
                <a:srgbClr val="000000"/>
              </a:buClr>
              <a:buFont typeface="Times New Roman"/>
              <a:buChar char="–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2" marL="2938320" indent="-587160">
              <a:spcBef>
                <a:spcPts val="2049"/>
              </a:spcBef>
              <a:buClr>
                <a:srgbClr val="000000"/>
              </a:buClr>
              <a:buFont typeface="Times New Roman"/>
              <a:buChar char="•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3" marL="4114800" indent="-587520">
              <a:spcBef>
                <a:spcPts val="2049"/>
              </a:spcBef>
              <a:buClr>
                <a:srgbClr val="000000"/>
              </a:buClr>
              <a:buFont typeface="Times New Roman"/>
              <a:buChar char="–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4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5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6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2082780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2082780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2082780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 algn="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fld id="{5A028799-9933-44BA-B484-26178F5C7AAA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031200"/>
            <a:ext cx="182880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82880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762120"/>
            <a:ext cx="16459200" cy="20878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609480"/>
            <a:ext cx="14020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rebuchet MS"/>
              </a:rPr>
              <a:t>Lo Que Hago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657600"/>
            <a:ext cx="14096880" cy="171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as son las actividades qu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dos los dias, los fines de semana y los ver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dos los dias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eva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siete y diez 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uch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is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lleg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coleg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es de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sal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 mi casa y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o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bus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esayun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n leche y ce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le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colegio al las siete y cuarenta y cinco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harl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 poco con 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igos y amigas antes de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empez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s clases a las ocho y diez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 clas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spanol, ingles y matematicas.  Tambien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utadoras 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gust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oc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a la tarde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uelv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mi casa, como a las tres y veinte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reas.  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udi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hasta las cinco y media y despu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al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un poco con 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igas par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almacen o a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mi familia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en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siete y media, despu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un poc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levision y no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acostamo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las di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fines de semanas 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s mismas cosas qu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dos los 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ero,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eva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diez o diez y media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esauyn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n mi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sta las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spues me ducho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impi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i cuarto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ayud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mis padres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 compra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cort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 hierba o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rabaj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el garaje.  Si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uen tiemp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o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bicic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nad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la piscina, o por un paseo en el parque.  A vec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ro de mis amigas,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amo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fiestas o al cine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ve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elic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 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uen tiemp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o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mi casa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toc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pia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e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elevision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jue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damas con mi her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veranos mi familia y y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iaj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chos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chas co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untos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jug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cuch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sica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bail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om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masi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verano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is estaciones favorit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8305920"/>
            <a:ext cx="16761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68480" y="7467480"/>
            <a:ext cx="1489320" cy="15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0210680"/>
            <a:ext cx="1023840" cy="95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2953880" y="11506320"/>
            <a:ext cx="838440" cy="65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7365960"/>
            <a:ext cx="12191760" cy="81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905120" y="12801600"/>
            <a:ext cx="77148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4859000" y="17373600"/>
            <a:ext cx="1447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3:20:49Z</dcterms:created>
  <dc:creator>ValeriaP</dc:creator>
  <dc:description/>
  <dc:language>en-US</dc:language>
  <cp:lastModifiedBy>Preferred Customer</cp:lastModifiedBy>
  <cp:lastPrinted>2000-05-04T21:23:43Z</cp:lastPrinted>
  <dcterms:modified xsi:type="dcterms:W3CDTF">2002-01-27T02:46:29Z</dcterms:modified>
  <cp:revision>11</cp:revision>
  <dc:subject/>
  <dc:title>No Slide Title</dc:title>
</cp:coreProperties>
</file>